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94B-9A90-4679-A3D8-2402B9BC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2428-5AE5-4120-A17D-774CB26B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257-2F6B-476B-BD90-E24A8EB1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rleyathletic.com/sports/sports-medicine/skin-fold-calipers/m15450-fat-o-meter-skinfold-calip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626-09AF-45D2-88F1-B2505A22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collateralmed.com/stethoscope/3mtm-littmannr-classic-ii-s-e-stethoscopes-by-3m-for-536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1EB-138D-4C62-947D-460E303B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e65hteam5/technologies/blood-pressure-mon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A90-932F-42CF-BCB8-E9B6DBEC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neurologicals.com/index.php?app=ecom&amp;ns=prodshow&amp;ref=BSP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458-5069-4816-9E18-647217A9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dmit-online.info/en/background-information-respiration/physiology/definitions/lung-volume-and-capacities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0CB-C761-45D7-A56C-B0CB3198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334-BE02-4254-A24F-4A028EE1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026-B67A-416D-BDF9-DFF92557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63F-7DB5-4FDE-ACB3-BA4749DD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4CE-1406-4760-847D-92CE5863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607-D565-43E6-9D8F-A095A7F2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770-7396-4725-BCF8-43787678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A58-715A-4E37-A255-5529E55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E66-78DA-49CC-9D35-A0BEBE4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A32-C34F-427F-8A78-ED44CCE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CC3-9783-4498-A13B-3627FC2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054-8E08-47B6-97EF-7E453D3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966F-DD2B-43F7-83DF-2E6AA323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Measurement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ody Mass Index (B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relevant is BMI?  Read this Grade 9 student’s respon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pworthy.com/asked-about-her-body-mass-index-this-eighth-grader-had-the-best-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Body 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BM15450_small"/>
          <p:cNvPicPr/>
          <p:nvPr/>
        </p:nvPicPr>
        <p:blipFill>
          <a:blip r:embed="rId1"/>
          <a:stretch/>
        </p:blipFill>
        <p:spPr>
          <a:xfrm>
            <a:off x="2139840" y="1981080"/>
            <a:ext cx="48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th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20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Blood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hygmoman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(watch from 2 minut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_tt9nXN97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8-09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Lung Vo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(watch from 1:4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lWHx31Bq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SPIR spirometer 400"/>
          <p:cNvPicPr/>
          <p:nvPr/>
        </p:nvPicPr>
        <p:blipFill>
          <a:blip r:embed="rId1"/>
          <a:stretch/>
        </p:blipFill>
        <p:spPr>
          <a:xfrm>
            <a:off x="4648320" y="250020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221_lung_volume"/>
          <p:cNvPicPr/>
          <p:nvPr/>
        </p:nvPicPr>
        <p:blipFill>
          <a:blip r:embed="rId1"/>
          <a:stretch/>
        </p:blipFill>
        <p:spPr>
          <a:xfrm>
            <a:off x="1224000" y="609480"/>
            <a:ext cx="6696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10:58:11Z</dcterms:created>
  <dc:creator>rubina khan</dc:creator>
  <dc:description/>
  <dc:language>en-US</dc:language>
  <cp:lastModifiedBy>rubina khan</cp:lastModifiedBy>
  <dcterms:modified xsi:type="dcterms:W3CDTF">2016-04-19T18:31:04Z</dcterms:modified>
  <cp:revision>17</cp:revision>
  <dc:subject/>
  <dc:title>PowerPoint Presentation</dc:title>
</cp:coreProperties>
</file>